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E458F-4D11-4D90-885D-4D95B356D5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5EA04-D2D1-4CF9-8067-633B9DCA42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DB492-446F-4A97-9DD9-872CA55130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3BF13-E3E2-4899-8D94-1F89B151BC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4E1BBF-6F18-4E2E-B1F1-0BA992712A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10D743-C3E1-45AD-96DF-748D4AB9E9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1C7836-3677-460B-A038-22762FFD85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50848E-7572-4EDC-AD25-22DA9BD867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02F33D-05CC-4DE8-B69F-E1A4F9926D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5DC0BB-B429-483B-B47C-5B113D34E94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9F601-DD14-4793-9FEB-F1A6C085A7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1BC83-45E7-4BA5-AFAB-17E5010A69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9447FF-592D-485F-98A3-9D4FF385EE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07C6E7-C499-480D-9035-5F57F5F8FA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CE897B-F20C-42CA-8E86-3F88F6513B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D9C2DA-1320-4561-BF8D-A82E734504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1F8F62-2F73-4803-80B3-AED5A2D342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3DBC2-41BE-498F-BD29-F9F1BD2D21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F76E9-53F1-4E20-ABE2-B4F8CAC273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68DC8-94BB-4D08-9842-D68E82CD60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BCEDF-14A3-486B-B06C-E22846C1E1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CD19B-B863-45F9-9C5B-0C25F3BA79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70F54-6E2E-464E-B1E4-168CEDF253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912B0-171F-46D1-8934-BA4F5F3E93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986C-FA30-4F29-9C58-F2EAFBA045D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3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104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8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3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F287-B417-46D4-BA97-E4DE52057E2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a60b4"/>
                </a:solidFill>
                <a:latin typeface="Tahoma"/>
              </a:rPr>
              <a:t>DIAGRAM IT!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08" name="bs00175_" descr=""/>
          <p:cNvPicPr/>
          <p:nvPr/>
        </p:nvPicPr>
        <p:blipFill>
          <a:blip r:embed="rId1"/>
          <a:stretch/>
        </p:blipFill>
        <p:spPr>
          <a:xfrm>
            <a:off x="2362320" y="2817720"/>
            <a:ext cx="4876560" cy="40402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0b4"/>
                </a:solidFill>
                <a:latin typeface="Tahoma"/>
              </a:rPr>
              <a:t>Process for Managing the Performance Discussion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1295280" y="1295280"/>
            <a:ext cx="6248520" cy="1371600"/>
          </a:xfrm>
          <a:prstGeom prst="parallelogram">
            <a:avLst>
              <a:gd name="adj" fmla="val 113891"/>
            </a:avLst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anaging Performance 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iscussions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2971800"/>
            <a:ext cx="2743200" cy="1447920"/>
          </a:xfrm>
          <a:prstGeom prst="rect">
            <a:avLst/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TEP 1: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__________________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29000" y="2971800"/>
            <a:ext cx="2666880" cy="1447920"/>
          </a:xfrm>
          <a:prstGeom prst="rect">
            <a:avLst/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TEP 2: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_________________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77120" y="2971800"/>
            <a:ext cx="2438280" cy="1447920"/>
          </a:xfrm>
          <a:prstGeom prst="rect">
            <a:avLst/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TEP 3: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________________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29000" y="4876920"/>
            <a:ext cx="2666880" cy="1447560"/>
          </a:xfrm>
          <a:prstGeom prst="rect">
            <a:avLst/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TEP 5: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__________________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4876920"/>
            <a:ext cx="2666880" cy="1447560"/>
          </a:xfrm>
          <a:prstGeom prst="rect">
            <a:avLst/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TEP 4: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_________________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477120" y="4876920"/>
            <a:ext cx="2438280" cy="1447560"/>
          </a:xfrm>
          <a:prstGeom prst="rect">
            <a:avLst/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TEP 6: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________________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33720" y="2666880"/>
            <a:ext cx="0" cy="30492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48120" y="3657600"/>
            <a:ext cx="304560" cy="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3657600"/>
            <a:ext cx="304920" cy="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48120" y="5486400"/>
            <a:ext cx="304560" cy="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5486400"/>
            <a:ext cx="304920" cy="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23880" y="4648320"/>
            <a:ext cx="6096240" cy="0"/>
          </a:xfrm>
          <a:prstGeom prst="line">
            <a:avLst/>
          </a:prstGeom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523880" y="4648320"/>
            <a:ext cx="0" cy="22860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620120" y="4419720"/>
            <a:ext cx="0" cy="228600"/>
          </a:xfrm>
          <a:prstGeom prst="line">
            <a:avLst/>
          </a:prstGeom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014240" y="2133720"/>
            <a:ext cx="1622520" cy="577080"/>
          </a:xfrm>
          <a:prstGeom prst="rect">
            <a:avLst/>
          </a:prstGeom>
          <a:noFill/>
          <a:ln w="12600">
            <a:solidFill>
              <a:srgbClr val="4b51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1" action="ppaction://hlinksldjump"/>
              </a:rPr>
              <a:t>ANSWER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0b4"/>
                </a:solidFill>
                <a:latin typeface="Tahoma"/>
              </a:rPr>
              <a:t>Process for Managing the Performance Discuss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1066680" y="1371600"/>
            <a:ext cx="6477120" cy="1371600"/>
          </a:xfrm>
          <a:prstGeom prst="parallelogram">
            <a:avLst>
              <a:gd name="adj" fmla="val 118058"/>
            </a:avLst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anaging Performance 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iscussions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3048120"/>
            <a:ext cx="2743200" cy="1447560"/>
          </a:xfrm>
          <a:prstGeom prst="rect">
            <a:avLst/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TEP 1: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Define the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pecific performance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problem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429000" y="3048120"/>
            <a:ext cx="2666880" cy="1447560"/>
          </a:xfrm>
          <a:prstGeom prst="rect">
            <a:avLst/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TEP 2: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Describe the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impact of the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behavior.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77120" y="3048120"/>
            <a:ext cx="2438280" cy="1447560"/>
          </a:xfrm>
          <a:prstGeom prst="rect">
            <a:avLst/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TEP 3: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Explore possible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olutions.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4876920"/>
            <a:ext cx="2666880" cy="1447560"/>
          </a:xfrm>
          <a:prstGeom prst="rect">
            <a:avLst/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TEP 5: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List your suggestion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or improvement.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4876920"/>
            <a:ext cx="2666880" cy="1447560"/>
          </a:xfrm>
          <a:prstGeom prst="rect">
            <a:avLst/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TEP 4: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Consider possible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actions and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ollow-up</a:t>
            </a: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477120" y="4876920"/>
            <a:ext cx="2438280" cy="1447560"/>
          </a:xfrm>
          <a:prstGeom prst="rect">
            <a:avLst/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TEP 6: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End on an up note</a:t>
            </a: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133720" y="2743200"/>
            <a:ext cx="0" cy="30492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48120" y="3657600"/>
            <a:ext cx="304560" cy="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172200" y="3657600"/>
            <a:ext cx="304920" cy="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172200" y="5486400"/>
            <a:ext cx="304920" cy="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48120" y="5486400"/>
            <a:ext cx="304560" cy="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0120" y="4495680"/>
            <a:ext cx="0" cy="152640"/>
          </a:xfrm>
          <a:prstGeom prst="line">
            <a:avLst/>
          </a:prstGeom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523880" y="4648320"/>
            <a:ext cx="6096240" cy="0"/>
          </a:xfrm>
          <a:prstGeom prst="line">
            <a:avLst/>
          </a:prstGeom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523880" y="4648320"/>
            <a:ext cx="0" cy="22860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79600" y="640080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for next slide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60b4"/>
                </a:solidFill>
                <a:latin typeface="Tahoma"/>
              </a:rPr>
              <a:t>Four Components of Effective Leadershi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3124080" y="3505320"/>
            <a:ext cx="2895840" cy="1447560"/>
          </a:xfrm>
          <a:prstGeom prst="rect">
            <a:avLst/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Effective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Leadership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24080" y="1905120"/>
            <a:ext cx="2667240" cy="1295280"/>
          </a:xfrm>
          <a:prstGeom prst="ellipse">
            <a:avLst/>
          </a:prstGeom>
          <a:solidFill>
            <a:srgbClr val="ecd882"/>
          </a:solidFill>
          <a:ln cap="sq" w="12600">
            <a:solidFill>
              <a:srgbClr val="4b51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_________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495680" y="3200400"/>
            <a:ext cx="0" cy="304920"/>
          </a:xfrm>
          <a:prstGeom prst="line">
            <a:avLst/>
          </a:prstGeom>
          <a:ln cap="sq"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01480" y="1981080"/>
            <a:ext cx="1736640" cy="520560"/>
          </a:xfrm>
          <a:prstGeom prst="rect">
            <a:avLst/>
          </a:prstGeom>
          <a:noFill/>
          <a:ln cap="sq" w="12600">
            <a:solidFill>
              <a:srgbClr val="4b51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Arial"/>
                <a:hlinkClick r:id="rId1" action="ppaction://hlinksldjump"/>
              </a:rPr>
              <a:t>ANSWER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3581280"/>
            <a:ext cx="2666880" cy="1295640"/>
          </a:xfrm>
          <a:prstGeom prst="ellipse">
            <a:avLst/>
          </a:prstGeom>
          <a:solidFill>
            <a:srgbClr val="ecd882"/>
          </a:solidFill>
          <a:ln cap="sq" w="12600">
            <a:solidFill>
              <a:srgbClr val="4b51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_________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248520" y="3581280"/>
            <a:ext cx="2666880" cy="1295640"/>
          </a:xfrm>
          <a:prstGeom prst="ellipse">
            <a:avLst/>
          </a:prstGeom>
          <a:solidFill>
            <a:srgbClr val="ecd882"/>
          </a:solidFill>
          <a:ln cap="sq" w="12600">
            <a:solidFill>
              <a:srgbClr val="4b51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_________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00400" y="5334120"/>
            <a:ext cx="2666880" cy="1295280"/>
          </a:xfrm>
          <a:prstGeom prst="ellipse">
            <a:avLst/>
          </a:prstGeom>
          <a:solidFill>
            <a:srgbClr val="ecd882"/>
          </a:solidFill>
          <a:ln cap="sq" w="12600">
            <a:solidFill>
              <a:srgbClr val="4b51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_________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495680" y="5028840"/>
            <a:ext cx="0" cy="30492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895480" y="4267080"/>
            <a:ext cx="228600" cy="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6019560" y="4267080"/>
            <a:ext cx="228600" cy="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60b4"/>
                </a:solidFill>
                <a:latin typeface="Tahoma"/>
              </a:rPr>
              <a:t>Four Components of Effective Leadershi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3124080" y="3505320"/>
            <a:ext cx="2895840" cy="1447560"/>
          </a:xfrm>
          <a:prstGeom prst="rect">
            <a:avLst/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Effective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Leadership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124080" y="1905120"/>
            <a:ext cx="2667240" cy="1295280"/>
          </a:xfrm>
          <a:prstGeom prst="ellipse">
            <a:avLst/>
          </a:prstGeom>
          <a:solidFill>
            <a:srgbClr val="ecd882"/>
          </a:solidFill>
          <a:ln cap="sq" w="12600">
            <a:solidFill>
              <a:srgbClr val="4b51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Leader’s 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Qualities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95680" y="3200400"/>
            <a:ext cx="0" cy="304920"/>
          </a:xfrm>
          <a:prstGeom prst="line">
            <a:avLst/>
          </a:prstGeom>
          <a:ln cap="sq"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3581280"/>
            <a:ext cx="2666880" cy="1295640"/>
          </a:xfrm>
          <a:prstGeom prst="ellipse">
            <a:avLst/>
          </a:prstGeom>
          <a:solidFill>
            <a:srgbClr val="ecd882"/>
          </a:solidFill>
          <a:ln cap="sq" w="12600">
            <a:solidFill>
              <a:srgbClr val="4b51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ituational 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actors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3581280"/>
            <a:ext cx="2666880" cy="1295640"/>
          </a:xfrm>
          <a:prstGeom prst="ellipse">
            <a:avLst/>
          </a:prstGeom>
          <a:solidFill>
            <a:srgbClr val="ecd882"/>
          </a:solidFill>
          <a:ln cap="sq" w="12600">
            <a:solidFill>
              <a:srgbClr val="4b51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Leadership 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tyle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00400" y="5334120"/>
            <a:ext cx="2666880" cy="1295280"/>
          </a:xfrm>
          <a:prstGeom prst="ellipse">
            <a:avLst/>
          </a:prstGeom>
          <a:solidFill>
            <a:srgbClr val="ecd882"/>
          </a:solidFill>
          <a:ln cap="sq" w="12600">
            <a:solidFill>
              <a:srgbClr val="4b51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ollower’s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Qualities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495680" y="5028840"/>
            <a:ext cx="0" cy="30492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895480" y="4267080"/>
            <a:ext cx="228600" cy="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6019560" y="4267080"/>
            <a:ext cx="228600" cy="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327720" y="609588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for next slide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21:52:41Z</dcterms:created>
  <dc:creator>Dianne Jones</dc:creator>
  <dc:description/>
  <dc:language>en-US</dc:language>
  <cp:lastModifiedBy>Learning Technology Center</cp:lastModifiedBy>
  <dcterms:modified xsi:type="dcterms:W3CDTF">2002-08-26T19:10:20Z</dcterms:modified>
  <cp:revision>9</cp:revision>
  <dc:subject/>
  <dc:title>LABEL A DIAGRAM</dc:title>
</cp:coreProperties>
</file>